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6FA6-4748-4FB8-B93D-BD7FBAA79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444-7AD0-4440-8F59-CF217373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8C074B-466E-4989-9B8A-E08B94B9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45197B9-78AB-4B0A-A442-188D5F75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28F4DF-B897-4515-B8D1-CE212D4F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13AF44-1B51-4F44-80D2-ED6494EB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68ADFCA-603E-4DE7-8AF7-F53592F79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A01C9D-4DAD-4E0C-9DB0-1254FF84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E611CA-CF37-4A6A-9E0C-4FB367364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BBA8C65-FE91-4085-AAFB-9DB3C088D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EB96229-C0E8-4D99-AA16-B6B7D3EA8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1ADD93-656E-4942-808C-3B77813C4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04E1-467D-4C01-8D8C-AD367B16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AC01E0-19F4-4E8E-8470-80BE3701A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9B05519-F440-471D-95BE-982F44B8B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BCB840-622C-4797-8576-2A177B9C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4BAF3-16E9-4017-93E3-6C653A67A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8AE9EB6-28AD-47CD-866A-FBA2285D4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C5957F3-D24E-475A-BB43-D88B71AD7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7E1B593-EAEE-4957-B2E2-C5EB2C6E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7CD4E6B-3065-4888-AE84-589AB648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958572-A39F-45F7-A583-03C974FB9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216AE3-6C6A-4DDE-B701-8DCF2FD92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4C7A-BB93-4200-9D41-778F12F2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225E066-B703-45A2-8AB0-777D0F1E6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63A630-EA5E-4B5B-A575-799CD087A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A1A117-5A93-497D-89AF-A2F447D21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C50FC0-AFD2-4B9E-8952-521CAAAE5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96108A-54B4-4D2C-97AD-000E365E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ED0D59-252E-40CB-AFA8-1B30F520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48AAB-EACA-4905-BA53-8682D031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4C7DB5-450A-4864-B472-2C554771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C5A8AF-DD94-4EC7-8CB3-3CD89C05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58292-C7A2-4EC2-9DD8-A77B16707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E0B0E-926B-4E2F-967A-BB313F1D1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F3E7EF-34B6-42B6-B991-1CB85CC19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43AA1D-87BC-4629-9739-A8B16357A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4A9A3B-C105-4A21-B48A-F3744888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6F9C2F-F75E-4F39-B0C2-01643CF2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5B802F-8556-4593-80F2-A4F5092BE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1A2225-1A6F-4486-B49D-B08E973B4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C089D32-DC9A-4B2A-81EC-2703A9887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8605EC-3DFE-4D2E-B1F1-D8B6C849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6AA737-C1CF-4AA9-B9BB-634797B4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3FF404-3129-4281-9D5E-60FBC94A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385CE-699F-469D-B1A6-7F64932A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54B6BC3-F9E1-461C-B25E-ACB0D148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FF15EB4-A9A4-430D-AFD4-21083422C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47E4047-3E34-40E4-B720-00218D57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E19AFAA-2896-49FF-A27F-0F34EB167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AF5427-9B8F-4236-A8FB-DEA5576CE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3E86E-029B-4CBE-9EB5-A02BC29CA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6C1A-652B-40B7-88E9-560BDA5D6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5273-D457-4D49-A519-A80BFF0AE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F8E03-B8AC-4F97-996A-F48FADEA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A9694-186B-4F81-9296-491FD7AFB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8E67-0445-491E-A150-1027B420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0A3AE-DAB0-4F1B-B01F-FA127E02E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507E4-5CDE-4066-B303-FF84EB6D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BE0ED-C31C-464B-B65B-F61EE9BE8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1BB60-A729-45A5-BC3B-42523BF03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09331-55E1-40A2-9DB7-8EF853AD7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7764F-9C5F-4D44-9A6D-4E3F3708B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4A2566-637E-4155-9E6F-0D252EE4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44BBF-6F8F-4CE8-831C-571C29B0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4D77E2-9737-4EAE-98B7-ECCBE83A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262363-67A8-466D-952C-7983FAD12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C29D6-8004-447B-A849-CD76F9FC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9A2A5C-DC2F-4A7C-BA63-274DD623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CA768-37FA-402F-A16F-EF57DA685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D63D8-F1D7-415F-8BBE-FB272978C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C5988-C1D0-4383-A788-49A9F5EF9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A82E3B-ACD1-467B-B69C-6F6953829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608B76-7341-4263-890E-0031AF2D6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E8713-7532-4E8C-BC95-A0056192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1BB28-0021-4EE6-B6CE-0228E0AF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E6F0F5-7A83-462F-9BAB-219AAFD8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BD23B-EAB7-4518-A67F-841004883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497F-B8C3-412B-8FD2-6DD574F32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06657-6E92-4417-803A-3F9FA30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7CB9E-90D1-4E4F-9FB9-C44355BD0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63C94B-29CE-43C9-93F8-B17E1985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769EA-5286-4BE1-A9FA-B05FD208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CC4D0B-76DC-49AD-AA98-F65EBDE72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B82894-AEC3-4654-8E73-9519497F4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5E07E3-B182-4E0B-A232-EC248F885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23AE2-89C8-41C2-B86A-573501E1E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23D92-D000-4619-8926-5DDB49C8A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1872D-6CE1-4F80-B160-FAB700CF77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4FC1-9245-4A60-A0FC-FEF4CFB34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B1509E-71D6-4E45-81D5-177D8CE00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202DE-6846-4F4A-A9C1-F288B26F2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84846-9208-411E-8023-9323EA6C5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19A681-7E50-42D4-9C7A-3ED52AB03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6CE931-B55C-4D19-B502-C0AFFBFF7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6BA91-AE76-4D02-87FD-2A5793AC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B1B9-C860-4C70-B9C2-550BA77CA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BE5464-F336-4ABA-86D3-914CDA82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424F9-AA4A-41C6-B2EB-983984237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8B7AC5-5A04-4AB9-AD61-D38E8182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A512-8591-416C-B2CB-3B7B1546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E43527-CD83-495F-A85D-056D1AD50F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E19416-00BE-44A4-9BED-F534F05AB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0A8A4-5D22-4B90-8528-BAA376590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81AD38-00A9-4C9D-A044-3E1731E56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3CE91E-A44D-473D-8E99-FE7115076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6D3A49-F749-4225-9435-40FA7E9B7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6D2F-B1A4-4E03-A3A9-0A0C0AF9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29DB54-33B6-4FA0-AFB8-B5EF5965E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D774E8-1BB9-463C-BD1B-FA9DDB82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E0357-1638-46DD-B1CF-A6BC27EA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E7CC-F302-49B8-8852-85A4A054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55015D-CC5C-4F69-86F9-E7A5BAE3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26DBD8-DCFB-4589-AAA6-DEC6372E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3405C-9E1E-4EA9-9AE6-38F6479DB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FEC35-B980-4196-A485-C1F3B0DA10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F9EDB7-D75F-4549-9152-50768E1C1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8F298-EAA4-4C14-9FEC-021BFEF2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5137C-ACB9-493D-996C-B63D1E5C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FD5A4-9AF1-4127-A7A7-66B8FCE5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9153B-D92C-4CEA-B6A3-02B0D3EE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22C492-13FD-4B9B-BAF8-0F8A8451E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FD98-3552-4E97-B1C5-7D14B6990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58A0F-580C-4DC3-A8B8-839C0389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60A673-F448-4D6D-A61F-8E60646E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07AC1B-2C2E-4AB9-9E31-5F117DA5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A2C80B-5C8C-46DD-A696-07476176D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F03038-CC4E-4DF8-8FD2-AE1BF5D46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58BD4D-F359-4E7A-B8EC-317C3A12C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0DCDDF-4C44-4346-9DDF-4BE19184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9BEC1-612C-4B0C-BCBB-DDDC59F83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7DF407-CACB-4723-9C70-2CFAC07F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B30CD1-EB8C-4E8F-A881-6892F828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35E4C-CECC-4664-B148-4C9E10AC1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F7A1B4-EA3D-46E5-A219-868C4786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86A47-295D-4F23-ABFD-755B0D54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108AC2-0B12-48BE-AC1B-B46CAF3A1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E03CC2-196B-4FCB-B7E3-B09C1BD49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2BE49-03A1-4357-B183-FBD1FAB7F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12484-8662-40DB-9A27-B97925216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FF68E7-DD70-438F-A74D-2ACD73460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4775CF5-7224-436A-80FE-A0B7F90ED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37D9C6-CFE5-4466-868C-80BC8C0F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1A46447-48AA-43E4-A3D3-DC76BD274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5E86D-8D8C-417E-8EBA-921D6C6C802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1FA3-3A67-4E49-81D9-D0FB46C945F1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F07C5-C06F-47E6-9E96-B0DCB130445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C8F99-BBD3-4794-A481-BCC823E103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2CF92-B85F-415D-9970-9F532C9091E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6E01-CFCF-4CDE-8747-9710BEAD393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36457-C642-4E47-AB93-A944E90F734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4F3B-8297-4E12-929C-ADD731B3EFE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B8EC6-5C05-4548-87EB-87F9EA2F081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A0C6-D38C-456D-B41E-09E0C94B69CF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5BD5-BB77-494E-87AD-7D4E718F1C95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666E5-0F84-4F7E-B6C2-BA3282AB0CC7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유입수 및 인공시료를 대상으로 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과정 설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시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생물학적 방법을 조합 또는 단독 선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차 실험방법과 동일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 유입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금호하수처리장 유입하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사지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OD 500mg/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의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148400" y="326880"/>
            <a:ext cx="356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2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과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7"/>
          <p:cNvSpPr/>
          <p:nvPr/>
        </p:nvSpPr>
        <p:spPr>
          <a:xfrm>
            <a:off x="744480" y="692280"/>
            <a:ext cx="21830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방법 소개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8"/>
          <p:cNvSpPr/>
          <p:nvPr/>
        </p:nvSpPr>
        <p:spPr>
          <a:xfrm>
            <a:off x="809640" y="1225440"/>
            <a:ext cx="721836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물리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GAC, PAC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: Granular Activated Carbon (dia. ≥ 0.1mm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PAC: Powdered Activated Carbon (dia. ≤ 0.074m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8"/>
          <p:cNvSpPr/>
          <p:nvPr/>
        </p:nvSpPr>
        <p:spPr>
          <a:xfrm>
            <a:off x="809640" y="2654280"/>
            <a:ext cx="815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흡착 실험 세부 과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시료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AC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AC 1~5g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종류 및 첨가량은 자유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은 최소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_x204436616" descr="EMB00000a1c3965"/>
          <p:cNvPicPr/>
          <p:nvPr/>
        </p:nvPicPr>
        <p:blipFill>
          <a:blip r:embed="rId1"/>
          <a:stretch/>
        </p:blipFill>
        <p:spPr>
          <a:xfrm>
            <a:off x="971640" y="1413000"/>
            <a:ext cx="7230960" cy="3095640"/>
          </a:xfrm>
          <a:prstGeom prst="rect">
            <a:avLst/>
          </a:prstGeom>
          <a:ln w="0">
            <a:noFill/>
          </a:ln>
        </p:spPr>
      </p:pic>
      <p:sp>
        <p:nvSpPr>
          <p:cNvPr id="788" name="직사각형 3"/>
          <p:cNvSpPr/>
          <p:nvPr/>
        </p:nvSpPr>
        <p:spPr>
          <a:xfrm>
            <a:off x="3458160" y="4653000"/>
            <a:ext cx="225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8"/>
          <p:cNvSpPr/>
          <p:nvPr/>
        </p:nvSpPr>
        <p:spPr>
          <a:xfrm>
            <a:off x="809640" y="765000"/>
            <a:ext cx="7794720" cy="303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화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Aluminum Sulfate, A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1.0~5.0 mg-Alum/L-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폐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갸량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지 이상 선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필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급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50rpm) 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완속교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50rpm) 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실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Jar-tester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 종료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3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시료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pH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결과 및 토의내용 제시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Text Box 8"/>
          <p:cNvSpPr/>
          <p:nvPr/>
        </p:nvSpPr>
        <p:spPr>
          <a:xfrm>
            <a:off x="809640" y="765000"/>
            <a:ext cx="7794720" cy="54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생물학적 방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 사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 시료와 활성슬러지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슬러지 첨가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2∼0.4kgBOD/kgMLSS/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F/M)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 (Food to Microorganism ratio)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루에 단위 중량의 미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이 처리가능한 적정 유기물량을 의미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한 설계 기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과 처리대상 폐수의 혼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rp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혼합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F/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결정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 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대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~6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정도에 따라 미생물량이 달라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단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LSS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,000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가정하여 설계 및 실험을 진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사용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00ml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비이커에서 직접폭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선택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8"/>
          <p:cNvSpPr/>
          <p:nvPr/>
        </p:nvSpPr>
        <p:spPr>
          <a:xfrm>
            <a:off x="809640" y="765000"/>
            <a:ext cx="779472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대상 폐수 혼합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교반기를 사용하여 일정시간 혼합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반응 완료 후 침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이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 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후 상징액 채취하여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Text Box 8"/>
          <p:cNvSpPr/>
          <p:nvPr/>
        </p:nvSpPr>
        <p:spPr>
          <a:xfrm>
            <a:off x="809640" y="765000"/>
            <a:ext cx="7794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SzPct val="8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각 방법의 조합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물리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 후 적정 처리 방법 선택 및 조합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 사항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응집제 직접 혼합 금지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수 상징액에 응집제 투입 가능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슬러지와 활성탄 혼합 금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조별로 선택한 방법에 대해 충분히 고민한 뒤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해당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방법을 선택한 배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www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토의사항 등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 제시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K Choi</cp:lastModifiedBy>
  <dcterms:modified xsi:type="dcterms:W3CDTF">2014-03-17T08:37:57Z</dcterms:modified>
  <cp:revision>164</cp:revision>
  <dc:subject/>
  <dc:title>슬라이드 1</dc:title>
</cp:coreProperties>
</file>